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5956-98CD-4038-BD69-74D1FFE1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4A31-9239-4B81-9B84-76E72C01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C9AE-981B-45D4-8AE1-29A151D1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BE31-D882-4D5A-9605-277E16C9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88E-B970-47CB-B178-E99A866F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7080-1304-4217-B44C-FFCFF264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E1BE-60BB-41D8-BCCE-2AE2C85A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B46-65F8-4E80-8E6F-6A926553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CD96-E276-465D-98F7-B90DD933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79D1-4CC3-401A-A68F-0D938EEA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48C1-01EC-482D-9A3D-648E619A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AD12-DE06-4A77-8A62-051C20E5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B84A-D624-4152-945C-4CB87A9E513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4" descr=""/>
          <p:cNvPicPr/>
          <p:nvPr/>
        </p:nvPicPr>
        <p:blipFill>
          <a:blip r:embed="rId1"/>
          <a:stretch/>
        </p:blipFill>
        <p:spPr>
          <a:xfrm>
            <a:off x="450720" y="2206800"/>
            <a:ext cx="8193240" cy="3481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lvl="1" marL="5792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изация в МАДОУ «ЦРР-Детский сад № 21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792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 «ЛГО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ПРОДОЛЖАЕМ РАБОТУ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утогенная трениро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флексия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лакс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сихологический душ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Диагностика по методике В.В. Бойко «Исследование эмоционального выгорания»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Цель: Измерение уровня проявления у педагогов эмоционального выгорания. Выявление педагогов с наличием синдром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Рисунок 5" descr="GRy5RcUWbiU.jpg"/>
          <p:cNvPicPr/>
          <p:nvPr/>
        </p:nvPicPr>
        <p:blipFill>
          <a:blip r:embed="rId1"/>
          <a:stretch/>
        </p:blipFill>
        <p:spPr>
          <a:xfrm>
            <a:off x="1447920" y="2743200"/>
            <a:ext cx="2771640" cy="3695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3qjSq5XcAW4.jpg"/>
          <p:cNvPicPr/>
          <p:nvPr/>
        </p:nvPicPr>
        <p:blipFill>
          <a:blip r:embed="rId2"/>
          <a:stretch/>
        </p:blipFill>
        <p:spPr>
          <a:xfrm>
            <a:off x="4876920" y="2743200"/>
            <a:ext cx="27716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Дискуссия «Плюсы и минусы профессии «Педагог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Цель: Помочь увидеть позитивные стороны профессии «Педагог» в сравнении с другими профессия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5" descr="PIC_1564"/>
          <p:cNvPicPr/>
          <p:nvPr/>
        </p:nvPicPr>
        <p:blipFill>
          <a:blip r:embed="rId1"/>
          <a:stretch/>
        </p:blipFill>
        <p:spPr>
          <a:xfrm>
            <a:off x="4343400" y="3124080"/>
            <a:ext cx="4578480" cy="2590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lhqAS2yAbvs.jpg"/>
          <p:cNvPicPr/>
          <p:nvPr/>
        </p:nvPicPr>
        <p:blipFill>
          <a:blip r:embed="rId2"/>
          <a:stretch/>
        </p:blipFill>
        <p:spPr>
          <a:xfrm>
            <a:off x="228600" y="3124080"/>
            <a:ext cx="35560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Тренинг </a:t>
            </a:r>
            <a:br>
              <a:rPr sz="3600"/>
            </a:b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«Моя профессия – воспитатель!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175248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Цель: Развитие уверенности в себе как в педагоге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Содержимое 6" descr="QcWlBFiR2lI.jpg"/>
          <p:cNvPicPr/>
          <p:nvPr/>
        </p:nvPicPr>
        <p:blipFill>
          <a:blip r:embed="rId1"/>
          <a:stretch/>
        </p:blipFill>
        <p:spPr>
          <a:xfrm>
            <a:off x="762120" y="2133720"/>
            <a:ext cx="3085920" cy="4114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NYODfvZSzGY.jpg"/>
          <p:cNvPicPr/>
          <p:nvPr/>
        </p:nvPicPr>
        <p:blipFill>
          <a:blip r:embed="rId2"/>
          <a:stretch/>
        </p:blipFill>
        <p:spPr>
          <a:xfrm>
            <a:off x="5105520" y="2133720"/>
            <a:ext cx="3028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Круглый стол </a:t>
            </a:r>
            <a:br>
              <a:rPr sz="3600"/>
            </a:b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«Мы – профессионалы!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Цель: Способствование осознанию своей ценности, стимулирование к передаче опыта молодым педагога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Рисунок 4" descr="xFrX4bl6guw.jpg"/>
          <p:cNvPicPr/>
          <p:nvPr/>
        </p:nvPicPr>
        <p:blipFill>
          <a:blip r:embed="rId1"/>
          <a:stretch/>
        </p:blipFill>
        <p:spPr>
          <a:xfrm>
            <a:off x="3124080" y="2362320"/>
            <a:ext cx="290520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Практикум по телесно-ориентированной терапи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Цель: Обучение методам и приемам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правленных на профилактик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озникновения стрессов, релаксацию. Провела: психолог  ДОУ Сергеева Э.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4" descr="PIC_1577"/>
          <p:cNvPicPr/>
          <p:nvPr/>
        </p:nvPicPr>
        <p:blipFill>
          <a:blip r:embed="rId1"/>
          <a:stretch/>
        </p:blipFill>
        <p:spPr>
          <a:xfrm>
            <a:off x="609480" y="34290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PIC_1578"/>
          <p:cNvPicPr/>
          <p:nvPr/>
        </p:nvPicPr>
        <p:blipFill>
          <a:blip r:embed="rId2"/>
          <a:stretch/>
        </p:blipFill>
        <p:spPr>
          <a:xfrm>
            <a:off x="5257800" y="1828800"/>
            <a:ext cx="3543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Тренинг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«Бесконфликтное общение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04920" y="1981080"/>
            <a:ext cx="40384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Цель: Предотвращение конфликтов, обучение проявлению чувства юмора в общении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Содержимое 6" descr="EdG1rEVC-cA.jpg"/>
          <p:cNvPicPr/>
          <p:nvPr/>
        </p:nvPicPr>
        <p:blipFill>
          <a:blip r:embed="rId1"/>
          <a:stretch/>
        </p:blipFill>
        <p:spPr>
          <a:xfrm>
            <a:off x="4114800" y="2133720"/>
            <a:ext cx="484812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Коррекционная работ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утогенная трениров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флексия деятель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лакс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Психологический душ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4" descr="PIC_1597"/>
          <p:cNvPicPr/>
          <p:nvPr/>
        </p:nvPicPr>
        <p:blipFill>
          <a:blip r:embed="rId1"/>
          <a:srcRect l="5907" t="10927" r="0" b="5463"/>
          <a:stretch/>
        </p:blipFill>
        <p:spPr>
          <a:xfrm>
            <a:off x="4267080" y="1447920"/>
            <a:ext cx="4437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ЕЗУЛЬТАТ РЕАЛИЗАЦИИ ПРОЕКТА</a:t>
            </a:r>
            <a:br>
              <a:rPr sz="4400"/>
            </a:b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Дружная, сплоченная, работоспособная и конкурентноспособная команда педагог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ариса</dc:creator>
  <dc:description/>
  <dc:language>en-US</dc:language>
  <cp:lastModifiedBy>Лариса</cp:lastModifiedBy>
  <dcterms:modified xsi:type="dcterms:W3CDTF">2022-04-24T07:35:4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